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C6D-0867-4B81-BF93-B928C471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ADF-2412-4F10-BDBC-DBD6F0B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71C-B506-4211-A01C-632D88C7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0E1-1728-4F85-93C3-BE840589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A14-02A3-41A7-A244-B3DE3A9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08A-C081-4A2F-8BA5-67F1A41A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947-7ABE-4529-AA1A-9E87382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EE7-B215-4290-93FB-7FE50CE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7BD-5197-430A-B2F6-C7E0C55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D61-9BB9-4B3D-BA1F-BAF883E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503-D7DA-4E97-891F-4292FE6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0D4-0D59-4A07-9A4C-27ED16B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AD17-91B6-472B-A020-581C634B0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itannic Bold"/>
              </a:rPr>
              <a:t>Gender Inequal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: Malou Resta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mina Re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exual subjug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E N D :D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6160" y="146160"/>
            <a:ext cx="88581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GENDER INEQUALITY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refers to disparity between individuals due to gender. Gender is constructed both socially through social interactions as well as biologically through chromosomes, brain structure, and hormonal differences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LIEF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, men and women have different psychological and sexual natures, two- men are inherently the dominant or superior sex, and three – both male female difference and male dominance are natural.” (Bem, 1993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is written in the Bible, “To the woman he (God) said, I will greatly increase your pain in childbearing; with pain you will give birth to children. Your desire will be for you husband, and he will rule over you.” (Genesis 3:16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Examples of Gender Ine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rcRect l="14504" t="0" r="14504" b="0"/>
          <a:stretch/>
        </p:blipFill>
        <p:spPr>
          <a:xfrm>
            <a:off x="2438280" y="2438280"/>
            <a:ext cx="54864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bidden from driv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ght to div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rcRect l="7333" t="0" r="7333" b="0"/>
          <a:stretch/>
        </p:blipFill>
        <p:spPr>
          <a:xfrm>
            <a:off x="213372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ccess to educ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ictims of viole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rcRect l="1332" t="0" r="1332" b="0"/>
          <a:stretch/>
        </p:blipFill>
        <p:spPr>
          <a:xfrm>
            <a:off x="1752480" y="1523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4:13:28Z</dcterms:created>
  <dc:creator>user</dc:creator>
  <dc:description/>
  <dc:language>en-US</dc:language>
  <cp:lastModifiedBy>user</cp:lastModifiedBy>
  <dcterms:modified xsi:type="dcterms:W3CDTF">2012-03-06T17:40:12Z</dcterms:modified>
  <cp:revision>15</cp:revision>
  <dc:subject/>
  <dc:title>Gender and Power</dc:title>
</cp:coreProperties>
</file>